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298A54-C5D7-46A5-8C32-3C0F2EA64E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2B4AA-ACDB-4E56-9BE4-5C9D1DBC8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24F66F-5F58-41D2-A628-F82A212FE1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64E0EA-AF4E-4DE6-B82B-82F26E12D3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8ABD9-D98E-4DF0-9EFC-2FEA1120E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6BA45-E630-4992-A3D6-52CF87E82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CC303-5D36-4C3E-95E6-07E562E52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6FB58-F42A-4D04-800A-53D388439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828C3-BE58-4E11-94C5-1DBF336A0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46F99-8CB3-4376-A2C8-C3318CEA7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C3C10-BBAA-47AF-957E-8DC071DC8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2471E-AD5F-43D9-88BC-21103DC8BF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F356B-9BD2-432B-B7FA-AAC9EF9DF7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english.people.com.cn/200604/19/images/gold.jpg&amp;imgrefurl=http://english.peopledaily.com.cn/200604/19/archive.html&amp;h=335&amp;w=400&amp;sz=25&amp;hl=en&amp;start=5&amp;um=1&amp;usg=__uCJs2x_INU40dg-b2Id66qTlj_8=&amp;tbnid=PM86ko_A8W958M:&amp;tbnh=104&amp;tbnw=124&amp;prev=/images%3Fq%3Dgold%26um%3D1%26hl%3Den"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opi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Dalton Parker</a:t>
            </a:r>
            <a:endParaRPr b="0" lang="en-US" sz="3200" spc="-1" strike="noStrike">
              <a:solidFill>
                <a:srgbClr val="000000"/>
              </a:solidFill>
              <a:latin typeface="Arial"/>
            </a:endParaRPr>
          </a:p>
        </p:txBody>
      </p:sp>
      <p:pic>
        <p:nvPicPr>
          <p:cNvPr id="43" name="" descr=""/>
          <p:cNvPicPr/>
          <p:nvPr/>
        </p:nvPicPr>
        <p:blipFill>
          <a:blip r:embed="rId1"/>
          <a:stretch/>
        </p:blipFill>
        <p:spPr>
          <a:xfrm>
            <a:off x="2590920" y="4343400"/>
            <a:ext cx="3886200" cy="2378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 Ethiopia is located</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iopia is located 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ed in the nor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tern part of Afric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th of Kenya an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th of Eritrea. </a:t>
            </a:r>
            <a:endParaRPr b="0" lang="en-US" sz="3200" spc="-1" strike="noStrike">
              <a:solidFill>
                <a:srgbClr val="000000"/>
              </a:solidFill>
              <a:latin typeface="Arial"/>
            </a:endParaRPr>
          </a:p>
        </p:txBody>
      </p:sp>
      <p:pic>
        <p:nvPicPr>
          <p:cNvPr id="46" name="" descr=""/>
          <p:cNvPicPr/>
          <p:nvPr/>
        </p:nvPicPr>
        <p:blipFill>
          <a:blip r:embed="rId1"/>
          <a:stretch/>
        </p:blipFill>
        <p:spPr>
          <a:xfrm>
            <a:off x="4800600" y="2286000"/>
            <a:ext cx="3371760" cy="327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lag of Ethiopia</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Ethiopia flag"/>
          <p:cNvPicPr/>
          <p:nvPr/>
        </p:nvPicPr>
        <p:blipFill>
          <a:blip r:embed="rId1"/>
          <a:stretch/>
        </p:blipFill>
        <p:spPr>
          <a:xfrm>
            <a:off x="1676520" y="2666880"/>
            <a:ext cx="5715000" cy="2857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jor historical event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group called the Ethiopian People's Revolutionary Democratic Front seized the capital in 1991, and in May a separatist guerrilla organization, the Eritrean People's Liberation Front, took control of the province of Eritrea. The two groups agreed that Eritrea would have an internationally supervised referendum on independenc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ince Eritrea's independence, Eritrea and Ethiopia had disagreed about the exact demarcation of their borders, and in May 1998 Eritrea initiated border clashes that developed into a full-scale war that left more than 80,000 dead and further destroyed both countries' ailing economies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June 2006, an Islamist militia seized control of the capital of neighboring Somalia and established control in much of that country's south. Ethiopia, which has clashed in the past with Somalia's Islamists and considers them a threat to regional security, began amassing troops on Somalia's border, in support of Somalia's weak transitional government, led by President Abdullah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2" name="" descr=""/>
          <p:cNvPicPr/>
          <p:nvPr/>
        </p:nvPicPr>
        <p:blipFill>
          <a:blip r:embed="rId1"/>
          <a:stretch/>
        </p:blipFill>
        <p:spPr>
          <a:xfrm>
            <a:off x="5562720" y="4648320"/>
            <a:ext cx="2590560" cy="197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ortance of event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event was important to Ethiopia it made it where Eritrea had independence.</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cond even was important because it left 80000 dead and led to the drastic slump in each countries economi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st event is important because Ethiopia felt a threat on the regional security of their countr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Ethiopia the government is a federal republic. The president is Girma Woldegiorgis, he has been president since 2001. defeated the government of Mengistu regime. In July 1991, the TPLF, the Oromo Liberation Front (OLF), and others established the Transitional Government of Ethiopia (TGE) which consisted of an 87-member Council of Representatives and guided by a national charter that functioned as a transitional constitution. In June 1992 the OLF withdrew from the government; in March 1993, members of the Southern Ethiopia Peoples' Democratic Coalition left the governm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jor imports/export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imports- food and live animals, petroleum and petroleum products, chemicals, machinery, motor vehicles, cereals, textil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Exports-</a:t>
            </a:r>
            <a:r>
              <a:rPr b="0" lang="en-US" sz="3200" spc="-1" strike="noStrike">
                <a:solidFill>
                  <a:srgbClr val="000000"/>
                </a:solidFill>
                <a:latin typeface="Arial"/>
              </a:rPr>
              <a:t> coffee, qat, gold, leather products, live animals, oilseeds  </a:t>
            </a:r>
            <a:endParaRPr b="0" lang="en-US" sz="3200" spc="-1" strike="noStrike">
              <a:solidFill>
                <a:srgbClr val="000000"/>
              </a:solidFill>
              <a:latin typeface="Arial"/>
            </a:endParaRPr>
          </a:p>
        </p:txBody>
      </p:sp>
      <p:pic>
        <p:nvPicPr>
          <p:cNvPr id="59" name="" descr="">
            <a:hlinkClick r:id="rId1"/>
          </p:cNvPr>
          <p:cNvPicPr/>
          <p:nvPr/>
        </p:nvPicPr>
        <p:blipFill>
          <a:blip r:embed="rId2"/>
          <a:stretch/>
        </p:blipFill>
        <p:spPr>
          <a:xfrm>
            <a:off x="1143000" y="4648320"/>
            <a:ext cx="1905120" cy="1596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0T15:13:06Z</dcterms:created>
  <dc:creator>daltonparker</dc:creator>
  <dc:description/>
  <dc:language>en-US</dc:language>
  <cp:lastModifiedBy>daltonparker</cp:lastModifiedBy>
  <dcterms:modified xsi:type="dcterms:W3CDTF">2008-11-06T16:37:36Z</dcterms:modified>
  <cp:revision>4</cp:revision>
  <dc:subject/>
  <dc:title>Ethiopia</dc:title>
</cp:coreProperties>
</file>